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5CCB-FE39-4F89-94EF-2FDB7DFF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5044-BDD8-41A7-B442-1ED408BB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6F9D-4C1E-4DA7-8BB7-1E8894BC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35A1-20D7-4AD7-A223-3717A86E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C4DD-2212-412E-9EA1-43CC7940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227A-BC12-4B4F-BA64-AE03C6E0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9649-F791-480F-B7E2-79EB9655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1A54-DF69-4081-AC3B-36B5CE81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4876-6889-4A8C-B54C-CE11CA07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637F-7FD7-4385-9E30-2637F52A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AEAD-F86D-4E1B-8F49-74387175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692F-FDF8-44E8-B043-82F77ACF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64B8-CF5B-487A-91C8-DDC9FD51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CE0A-34A8-49C5-B69E-AF7C954C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F615-A79F-4B71-BD7F-78E583E5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DC34-2914-417B-87BD-D8C2B690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2E74-667B-4424-9CED-EC2EC29E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6652-3BDE-4217-B9D3-635BE9DF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4D0A-6685-41B5-BFCD-00528E72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A826-B983-412E-B145-8BB27C23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4E2A-8075-4BE8-85AD-C0DA67E4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C04F-A810-48A1-80BF-B733D6E2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F7E0-66D5-4A7C-A3BA-703B82CC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145E-9CBC-47C3-A497-B81A246B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C22D-6850-474F-8EFA-E8766A0167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47A1-4FF9-40FF-A844-1A10568023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НЕВЕРБАЛН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КОМУНИКАЦИЈ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ви невербалне комуник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Обр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Значењ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здигнута сре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абринут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лакша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пуштена сре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Љутња, бес, фрустр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исока концетра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ви невербалне комуник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Рук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Значењ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ст преко усана и држање за у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главном значи да не говори ист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ржање руку за корен носа или додиривање н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лушалац не верујем ономе што чу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ржање руку у облику пирами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амопоуздање и вера у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игурне и супериорне осо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ви невербалне комуник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Рук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Значењ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екрштене ру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атоворен став, резервисаност и опр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ржање руку на леђ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упериорност, поуздање, мо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крштање или преклапање ру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абринутост и стр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алчеви окренути на д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иско самопоузд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ви невербалне комуник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Ног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Значењ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едење са раширеним ног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090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стицање домин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090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оћне и богате осо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едење са прекрштеним нога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090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лежањ преко колена – сигурност, доминантност, тврдогла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090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лежањ преко глежња – неизвесност и ст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090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лено преко колена – жене: заводнички став, заштитнички став, предострожност, склониш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арактеристике невербалне комунициј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1676520"/>
          <a:ext cx="8610480" cy="509112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актеристике комуникац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бал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вербал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жено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дна димензија (ре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ше димензија (став, глас ..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ремен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инуиран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асноћ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тко је погрешна интерпрета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к је двосмисл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н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иј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мер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јчешће намер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то намер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Невербална комуни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Функције невербалне комуникациј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опуњавање гово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Замењивање вербалне комуникације – неки гест замени ре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аглашавање (подупирање говора) – коришћење гестова да би се нешто нагласи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упростављање говору – особа не признаје своју емотивну реакцију (“Нисам љут.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ви невербалне комуник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Контакт оч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Функциј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контакта очи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Тражење информ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казивање пажње и интересо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ажење и контрола интер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оминација, претња и утица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Тражење повратне информ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Откривање став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ви невербалне комуник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Контакт оч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Значењ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контакта оч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Активно избегав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искрено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сигурно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асивно избегав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пошт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пристој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заинтересовано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ви невербалне комуник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Контакт оч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Значењ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контакта оч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ејак (дуг) контакт оч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зраз супери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етња (претећи ста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еља да се увр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глед нави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соба размишља, визуелни ти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више улево – присећање, навише удесно – смишљ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игнал досаде и тражења нечег интересантниј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ви невербалне комуник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Контакт оч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Значењ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контакта оч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глед нани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оже бити знак субмис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оже да показује крив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ниже улево – унутрашњи дија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ниже удесно – посвећеност сопственим емоц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 многим културама значи исказивање пошт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ви невербалне комуник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Контакт оч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Значењ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контакта оч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глед у стра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кретање ка извору привлачења пажње или прет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исећање на неки зв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атерални погледи (“шарање погледом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крети очима лево-десно могу указивати на прева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Шарање погледом се јавља и када се нешто саопштава “у поверењу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ви невербалне комуник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Обр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Значењ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пуштене обр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огу указивати на превару (у комбинацији са спуштеном глав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огу указивати да се ради о доминантној ос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огу указивати на незадовољ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дигнуте обр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огу указивати на привлачење паж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огу указивати на отвореност, па и субмисив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09T06:38:41Z</dcterms:modified>
  <cp:revision>188</cp:revision>
  <dc:subject/>
  <dc:title>Soft and Hard Skills Development: A Current Situation in Serbian Companies</dc:title>
</cp:coreProperties>
</file>